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1151-CEA7-42D9-AD95-8A45A11D3D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FE3B-2F23-4495-ABD9-E425EAEFE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2D4-B173-48DB-88E8-95506210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02BD-9F9F-416E-B299-A5D832BA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8A4-C036-433B-BBA4-A1D1C008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E61-3CC9-43CE-B754-09184519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5727-F4D5-4D67-8EDD-BC7BA7F2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15DC-21FE-4FC8-B402-D346595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708E-6696-488D-BF40-16A34642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F4EA-22B6-4A2A-9DC1-2D70A9F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0297-B348-4C96-8F32-F07AB41D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7A08-49C9-481F-ABFF-16DEBA23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DE78-8C4C-473A-8224-1011228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3AA-BED1-45BB-A46E-56EC83E7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6F79-9E15-4D27-9747-BF223FD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B187-D629-4E0D-87BA-16888F02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A0C5-E156-4FEE-A5D8-260D47F1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F48-7BAE-41E9-85FB-821435C7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25AF-46C6-4229-A8D6-CA4A91A0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107-C921-4D66-87D2-0C4287ED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4B3-C253-408B-AAA6-3EB922FC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684-B9F0-49B2-9CDE-27369B55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C94-4C1F-41B9-BA9F-EE32545A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71E-512D-424D-A13A-129042A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CD05-6393-4CD2-9281-AF6E15BA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4A9-6705-451E-A956-B95191BA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7260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72605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d892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d8924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26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dede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dedee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0FFC-8E27-4822-9259-6A9EA14A934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d892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d89243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7260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72605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dede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dedee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303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d26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d8924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605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ad01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edee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15D6-43D0-4B5D-9069-D46E225730CB}" type="slidenum">
              <a:rPr b="0" lang="ru-RU" sz="1400" spc="-1" strike="noStrike">
                <a:solidFill>
                  <a:srgbClr val="dedee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848720" cy="612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ИТОГИ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муниципального этапа  олимпиад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2020-2021.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Результаты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ЗЭ РОШ и РЭ ВсОШ</a:t>
            </a:r>
            <a:br>
              <a:rPr sz="4800"/>
            </a:b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Хисамова Л.Ф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15.03.2021</a:t>
            </a:r>
            <a:br>
              <a:rPr sz="6000"/>
            </a:b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основным общеобразовательным организация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8000" y="2060640"/>
          <a:ext cx="8928000" cy="4728960"/>
        </p:xfrm>
        <a:graphic>
          <a:graphicData uri="http://schemas.openxmlformats.org/drawingml/2006/table">
            <a:tbl>
              <a:tblPr/>
              <a:tblGrid>
                <a:gridCol w="3456000"/>
                <a:gridCol w="792000"/>
                <a:gridCol w="1008000"/>
                <a:gridCol w="3672000"/>
              </a:tblGrid>
              <a:tr h="983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031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я победителей и призеров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4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8000" y="907920"/>
          <a:ext cx="8928000" cy="5288040"/>
        </p:xfrm>
        <a:graphic>
          <a:graphicData uri="http://schemas.openxmlformats.org/drawingml/2006/table">
            <a:tbl>
              <a:tblPr/>
              <a:tblGrid>
                <a:gridCol w="4087800"/>
                <a:gridCol w="1600200"/>
                <a:gridCol w="1746360"/>
                <a:gridCol w="1493640"/>
              </a:tblGrid>
              <a:tr h="25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-20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-202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-202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516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80312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внительные данные по количеству призовых мест на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МЭ ВсОШ и РОШ</a:t>
            </a:r>
            <a:endParaRPr b="0" lang="en-US" sz="20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887400"/>
          <a:ext cx="8928000" cy="5926320"/>
        </p:xfrm>
        <a:graphic>
          <a:graphicData uri="http://schemas.openxmlformats.org/drawingml/2006/table">
            <a:tbl>
              <a:tblPr/>
              <a:tblGrid>
                <a:gridCol w="4822920"/>
                <a:gridCol w="1090440"/>
                <a:gridCol w="1111320"/>
                <a:gridCol w="952560"/>
                <a:gridCol w="950760"/>
              </a:tblGrid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000" y="1052640"/>
          <a:ext cx="8928000" cy="5784840"/>
        </p:xfrm>
        <a:graphic>
          <a:graphicData uri="http://schemas.openxmlformats.org/drawingml/2006/table">
            <a:tbl>
              <a:tblPr/>
              <a:tblGrid>
                <a:gridCol w="144360"/>
                <a:gridCol w="934920"/>
                <a:gridCol w="2343240"/>
                <a:gridCol w="1185840"/>
                <a:gridCol w="792360"/>
                <a:gridCol w="503280"/>
                <a:gridCol w="576000"/>
                <a:gridCol w="439920"/>
                <a:gridCol w="2008080"/>
              </a:tblGrid>
              <a:tr h="222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окранова Галина Владим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зам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м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уллина Альбина Фаляхутди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,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 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еева Валентина Ив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пцова Ольга Васи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Гулия Габдраза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таф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ролева Ольга Евген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липп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а Миляуша  Мансу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Биектау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ухв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лю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лиева Людмил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920" y="43920"/>
            <a:ext cx="77421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ая олимпиада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УТЬ К ОЛИМПУ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-2021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“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125360"/>
            <a:ext cx="8820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12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11 учащихс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2 учащихся по предмету «Химия» (18 % от общ. кол. участ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- 6 призовых мест (31,6%) - 20 место в Республике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- предмет «Физика», «Математика»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ли 50 % и выше баллов – «Английский язык», но не стали призе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907920"/>
          <a:ext cx="8928000" cy="4951440"/>
        </p:xfrm>
        <a:graphic>
          <a:graphicData uri="http://schemas.openxmlformats.org/drawingml/2006/table">
            <a:tbl>
              <a:tblPr/>
              <a:tblGrid>
                <a:gridCol w="942840"/>
                <a:gridCol w="2903760"/>
                <a:gridCol w="1162080"/>
                <a:gridCol w="871200"/>
                <a:gridCol w="508320"/>
                <a:gridCol w="507960"/>
                <a:gridCol w="581040"/>
                <a:gridCol w="1450800"/>
              </a:tblGrid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ния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р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Щербаков В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р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86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лакова Н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бгатулл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ванова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нну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с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рмолаева С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7058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гиональный этап Всероссийской олимпиады школьников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052640"/>
            <a:ext cx="8928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 16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7 (4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   1 учащийся по предмету «Биология» (12 % от общ. колич. участ.) (2020 год – 1 призер (11%)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ые показатели – предмет «Химия», «ОБЖ», «Географ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приглашенных ежегодно не участвуют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Физика», «Астрономия», «Экономика» (2020-1), «Право» (2019 -2), «Обществознание» (2019 -2), «Экология» (2019 -1), «Математика», «Истор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учащихс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4-8 классов по предметам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1080" y="2133720"/>
          <a:ext cx="8854920" cy="3876480"/>
        </p:xfrm>
        <a:graphic>
          <a:graphicData uri="http://schemas.openxmlformats.org/drawingml/2006/table">
            <a:tbl>
              <a:tblPr/>
              <a:tblGrid>
                <a:gridCol w="1800000"/>
                <a:gridCol w="1944720"/>
                <a:gridCol w="1366920"/>
                <a:gridCol w="720720"/>
                <a:gridCol w="576360"/>
                <a:gridCol w="503280"/>
                <a:gridCol w="433080"/>
                <a:gridCol w="1509840"/>
              </a:tblGrid>
              <a:tr h="414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дейчев В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адиева Н.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ус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таулли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м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tIns="43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ибуллина Л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320" marR="43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гматзяноваГ.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3516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фигуллин Н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айдулин Р.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213840"/>
            <a:ext cx="864216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 для 4-8 классов, по предметам, включенным в состав ВсОШ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08000" y="1773360"/>
            <a:ext cx="87850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7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4 учащихся (57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учащийся по предмету «Математика» (25 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2020 год – призеров нет – 43 место в Республик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овали по предметам «ОБЖ», «Физкультур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«Литература», «Русский язык», «Информатика», «Химия», «Физика», «Астрономия», «Экономика» , «Право», «Обществознание», «Экология», «История», «География», «Искусство», «Английский язык», «Технологи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гулярно приглашаются на республику по предмета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иология» (2019 -1 учащийся - призе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тематика» (2019 -2 учащихся (1призер), 2020 -1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БЖ»  (2019 -1, 2020 -3 учащихся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774216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8000" y="1197000"/>
          <a:ext cx="8928000" cy="1870200"/>
        </p:xfrm>
        <a:graphic>
          <a:graphicData uri="http://schemas.openxmlformats.org/drawingml/2006/table">
            <a:tbl>
              <a:tblPr/>
              <a:tblGrid>
                <a:gridCol w="1800000"/>
                <a:gridCol w="1943280"/>
                <a:gridCol w="1368360"/>
                <a:gridCol w="720720"/>
                <a:gridCol w="576360"/>
                <a:gridCol w="503280"/>
                <a:gridCol w="431640"/>
                <a:gridCol w="1584360"/>
              </a:tblGrid>
              <a:tr h="4874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ая литература (тат. шк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бгатул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ф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фиуллина С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7200" rIns="7200" tIns="72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снутдиноваЛ.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43" name="TextBox 4"/>
          <p:cNvSpPr/>
          <p:nvPr/>
        </p:nvSpPr>
        <p:spPr>
          <a:xfrm>
            <a:off x="108000" y="3284640"/>
            <a:ext cx="878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– 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 – 1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т приглашенных по предмета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тория Татарстана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усский язык» (тат школ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144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кольный этап РОШ И ВсОШ</a:t>
            </a:r>
            <a:br>
              <a:rPr sz="4400"/>
            </a:b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ая информационная система 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2060280"/>
            <a:ext cx="88567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данных учащихся 4-11 классов ОО и учителей –предметников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mbria"/>
              </a:rPr>
              <a:t>Внесение результатов ШЭ олимпиад после каждой олимпиа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algn="just">
              <a:lnSpc>
                <a:spcPct val="105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ужно сделать анализ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08000" y="752400"/>
          <a:ext cx="8928000" cy="5935680"/>
        </p:xfrm>
        <a:graphic>
          <a:graphicData uri="http://schemas.openxmlformats.org/drawingml/2006/table">
            <a:tbl>
              <a:tblPr/>
              <a:tblGrid>
                <a:gridCol w="1944720"/>
                <a:gridCol w="2232000"/>
                <a:gridCol w="1224000"/>
                <a:gridCol w="863640"/>
                <a:gridCol w="431640"/>
                <a:gridCol w="360360"/>
                <a:gridCol w="360360"/>
                <a:gridCol w="1511280"/>
              </a:tblGrid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рипова Г.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иева А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йрие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матвалеева К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ро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 лит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ирова Т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мола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упова Р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дикова Р.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фе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леева Р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тарский язык (рус.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зикова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бдрахм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ю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 (тат.г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б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ранова Э. 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газутдинова Ф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.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н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еева А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и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тдинова Р.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3596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уз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бутдиноваЧ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н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йзуллина Р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72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у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с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рмаева Р.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840"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ая лит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илова Г.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240" marR="32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250920" y="1052640"/>
            <a:ext cx="87138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меты «Родной язык», «Родная литература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3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18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8 учащихся ( 44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участвуют 4 класс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учащиеся всех подгруп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0"/>
            <a:ext cx="77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еспубликанской олимпиады</a:t>
            </a:r>
            <a:endParaRPr b="0" lang="en-US" sz="28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250920" y="1052640"/>
            <a:ext cx="8713800" cy="66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глашены – 25 учащихс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вовали  - 20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ы – 9 учащихся ( 4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рошие показатели по предмет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еолог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Родной язык» для обучающихся школ с татарским языком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атарский язык» для русскоязычных обучаю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78920" y="189000"/>
            <a:ext cx="8775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риглашены – 62 учащихся (из них 6 ходатайст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Участвовали – 43 учащих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– 19 учащихся ( 30,5 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Количество призеров – 13 ( 30 %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ОШ «Путь к олимпу» – 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РЭ ВсОШ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8 классы – 1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Э РОШ 4-11 классы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 участвовали на заключительном этапе Республиканской и   Региональном этапе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drawingml/2006/table">
            <a:tbl>
              <a:tblPr/>
              <a:tblGrid>
                <a:gridCol w="2087640"/>
                <a:gridCol w="3241800"/>
                <a:gridCol w="1655640"/>
                <a:gridCol w="1152720"/>
                <a:gridCol w="647640"/>
              </a:tblGrid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лий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дыр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ами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ула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тият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Эльв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ечан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 "Рыбно-Слободская гимназия №1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шет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ус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з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"Ново-Арыш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ли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ания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Ново-Арыш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мсувале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Биектауская СОШ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з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"Большеелгин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ильм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й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Верхне-Тимерлек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ег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Рыбно-Слободская СОШ №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уриахмет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зкультура 9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знец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в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мойл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же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ала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Масловская СОШ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Ж 3-6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"Рыбно-Слободская СОШ № 2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8000" y="1341360"/>
          <a:ext cx="8928000" cy="4921200"/>
        </p:xfrm>
        <a:graphic>
          <a:graphicData uri="http://schemas.openxmlformats.org/drawingml/2006/table">
            <a:tbl>
              <a:tblPr/>
              <a:tblGrid>
                <a:gridCol w="3095640"/>
                <a:gridCol w="431640"/>
                <a:gridCol w="792360"/>
                <a:gridCol w="720720"/>
                <a:gridCol w="576000"/>
                <a:gridCol w="792360"/>
                <a:gridCol w="844560"/>
                <a:gridCol w="877680"/>
                <a:gridCol w="797040"/>
              </a:tblGrid>
              <a:tr h="12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тоги МЭ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участни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участников  от пригла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 приз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ризеров в 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ключительный этап Республиканской и   Региональный этап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557360"/>
          <a:ext cx="8640720" cy="4484520"/>
        </p:xfrm>
        <a:graphic>
          <a:graphicData uri="http://schemas.openxmlformats.org/drawingml/2006/table">
            <a:tbl>
              <a:tblPr/>
              <a:tblGrid>
                <a:gridCol w="3527280"/>
                <a:gridCol w="1513080"/>
                <a:gridCol w="1800000"/>
                <a:gridCol w="1800360"/>
              </a:tblGrid>
              <a:tr h="79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 - Слободская гимназия №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тлу-Букаш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-Машля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ерхне-Тимерлек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лыклы-Чукае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78920" y="-360"/>
            <a:ext cx="87757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ЕР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ключительного этапа Республиканской и   Регионального этапа Всероссийской олимпиад школьник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89243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4920" y="1844640"/>
          <a:ext cx="9074160" cy="4970520"/>
        </p:xfrm>
        <a:graphic>
          <a:graphicData uri="http://schemas.openxmlformats.org/drawingml/2006/table">
            <a:tbl>
              <a:tblPr/>
              <a:tblGrid>
                <a:gridCol w="2232000"/>
                <a:gridCol w="1944720"/>
                <a:gridCol w="1081080"/>
                <a:gridCol w="863640"/>
                <a:gridCol w="504720"/>
                <a:gridCol w="2448000"/>
              </a:tblGrid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лимпи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СОШ №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ври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лад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пова Миннегуль Идрис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им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ово-Арыш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нахм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Фирд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биуллина ГалияГимр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адрутдинов ГабдуллаАхат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дул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и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ектау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Язи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рипова Гузалия Хабибрахм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ой язык (тат школ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алахи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литература (тат ш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угарч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рипов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д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а Танзиля Асатул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ибя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ге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итдикова Рузиля Узбек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сл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отор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кс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ингалеева Рамзия Ахметзакир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атарский  язык (русские г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ирюк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наста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азикова ГузельГабдрафиков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одная  литература(т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умбут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рифул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с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айнутди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вияМирзахан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еолог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ольшеелгин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Шайхутди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уснутдинова ЛилияРафаи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ыбно-Слободская гимназия №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Заки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я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игматзянова Гульнара Роберт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1700280"/>
            <a:ext cx="841536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а внимание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   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</a:rPr>
              <a:t>На муниципальном этапе приняли участие:</a:t>
            </a:r>
            <a:endParaRPr b="0" lang="en-US" sz="4400" spc="-1" strike="noStrike">
              <a:solidFill>
                <a:srgbClr val="30303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201780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75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чащихся из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щеобразовательных организаци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28 предметам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826920" y="260280"/>
            <a:ext cx="749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ли участие на муниципальном этапе олимпиад по учебным годам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44520" y="1995480"/>
            <a:ext cx="8526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826920" y="26028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участников олимпиад в разрезе предмет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Диаграмма 3" descr=""/>
          <p:cNvPicPr/>
          <p:nvPr/>
        </p:nvPicPr>
        <p:blipFill>
          <a:blip r:embed="rId1"/>
          <a:stretch/>
        </p:blipFill>
        <p:spPr>
          <a:xfrm>
            <a:off x="-50760" y="209520"/>
            <a:ext cx="91882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овых мест на муниципальном этапе олимпиад по учебным год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pic>
        <p:nvPicPr>
          <p:cNvPr id="116" name="Диаграмма 3" descr=""/>
          <p:cNvPicPr/>
          <p:nvPr/>
        </p:nvPicPr>
        <p:blipFill>
          <a:blip r:embed="rId1"/>
          <a:stretch/>
        </p:blipFill>
        <p:spPr>
          <a:xfrm>
            <a:off x="200160" y="2006640"/>
            <a:ext cx="8886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/>
          <p:cNvSpPr/>
          <p:nvPr/>
        </p:nvSpPr>
        <p:spPr>
          <a:xfrm>
            <a:off x="2195640" y="620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0-2021 учебный год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39640" y="2205000"/>
            <a:ext cx="8353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03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го призовых мест -385 ( 28 %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бедителей- 148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еров-  237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школам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8000" y="1628640"/>
          <a:ext cx="8928000" cy="5222880"/>
        </p:xfrm>
        <a:graphic>
          <a:graphicData uri="http://schemas.openxmlformats.org/drawingml/2006/table">
            <a:tbl>
              <a:tblPr/>
              <a:tblGrid>
                <a:gridCol w="5159160"/>
                <a:gridCol w="1127160"/>
                <a:gridCol w="1567080"/>
                <a:gridCol w="1074600"/>
              </a:tblGrid>
              <a:tr h="5796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-11 клас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ля победителей и 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Ямаш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Юлсуб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кее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еморбаш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ижне-Тимерлек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Троицко-Урай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орноухов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Урахчинская О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ичество призеров муниципального этапа олимпиад по средним общеобразовательным организациям :</a:t>
            </a:r>
            <a:endParaRPr b="0" lang="en-US" sz="3200" spc="-1" strike="noStrike">
              <a:solidFill>
                <a:srgbClr val="30303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989000"/>
          <a:ext cx="8856720" cy="4537080"/>
        </p:xfrm>
        <a:graphic>
          <a:graphicData uri="http://schemas.openxmlformats.org/drawingml/2006/table">
            <a:tbl>
              <a:tblPr/>
              <a:tblGrid>
                <a:gridCol w="5087880"/>
                <a:gridCol w="1127160"/>
                <a:gridCol w="1567080"/>
                <a:gridCol w="1074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-11 клас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личество победителей и приз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доля победителей и приз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Шумбут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-Машля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Верхне-Тимерлек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Ново-Ары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иектау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тлу-Букаш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ольшеелг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Масло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Кугарчин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СОШ № 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Рыбно-Слободская гимназия № 1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МБОУ «Балыклы-Чукаевская СОШ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14:16:56Z</dcterms:created>
  <dc:creator>user</dc:creator>
  <dc:description/>
  <dc:language>en-US</dc:language>
  <cp:lastModifiedBy>Ильвера</cp:lastModifiedBy>
  <cp:lastPrinted>2021-03-14T13:04:04Z</cp:lastPrinted>
  <dcterms:modified xsi:type="dcterms:W3CDTF">2021-06-17T09:18:47Z</dcterms:modified>
  <cp:revision>433</cp:revision>
  <dc:subject/>
  <dc:title>Круглый стол по вопросам аттестации и государственной аккредитации  образовательных учреждений  среднего профессионального образования</dc:title>
</cp:coreProperties>
</file>